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88829"/>
        <c:axId val="21662895"/>
      </c:barChart>
      <c:catAx>
        <c:axId val="86988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62895"/>
        <c:crosses val="autoZero"/>
        <c:auto val="1"/>
        <c:lblAlgn val="ctr"/>
        <c:lblOffset val="100"/>
        <c:noMultiLvlLbl val="0"/>
      </c:catAx>
      <c:valAx>
        <c:axId val="21662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88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59D-02DF-4136-8D90-FA83C6CB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F7F-C03E-463C-B5B5-F3C43517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89F-F36E-42DF-A445-06EEAB3D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72B-D4CB-4135-8DA1-9A5AC948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C86-6A5C-4ED2-A628-6F65FECE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828-AA4F-4086-9CD9-6C14D836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5F8-423E-4CB0-8C4A-9BF3D703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637-2CDA-4440-8704-610A0F5C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E360-BD49-471C-B667-C8A70F1C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E83-A5F8-413F-BDBD-E6E62D69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910-FB08-481C-BE92-A243FDA4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755-277B-4D10-95D6-AABC197D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BC9F3-EBDE-4C34-BB52-7B203EE804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