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540993"/>
        <c:axId val="91842570"/>
      </c:barChart>
      <c:catAx>
        <c:axId val="535409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842570"/>
        <c:crosses val="autoZero"/>
        <c:auto val="1"/>
        <c:lblAlgn val="ctr"/>
        <c:lblOffset val="100"/>
        <c:noMultiLvlLbl val="0"/>
      </c:catAx>
      <c:valAx>
        <c:axId val="918425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409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169A-B484-4223-8D40-1ED8C5CB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13BE-6565-4836-AE39-ECCFBAF2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2C10-6F15-48B8-8309-9345B9AC5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2685-6948-48A8-B6D6-3376E21A5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99F9-DBF3-41DD-9E4A-EF4CBB2C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194C-3036-4F6F-94A5-7486848D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680A-52DB-4FEA-83D7-184F95CE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674D-626B-4F30-A1DF-05E5E570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50D4-B4C9-4D7D-806D-42236FE6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EEAB-0721-43B7-8C8C-E760A32B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DB4C-264C-4B60-967D-ACBABDD3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655D-4550-4DF8-89C8-C7FEF231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D96E5-3DE4-4AD1-8558-7034BAC410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