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832195"/>
        <c:axId val="62104875"/>
      </c:barChart>
      <c:catAx>
        <c:axId val="98832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04875"/>
        <c:crosses val="autoZero"/>
        <c:auto val="1"/>
        <c:lblAlgn val="ctr"/>
        <c:lblOffset val="100"/>
        <c:noMultiLvlLbl val="0"/>
      </c:catAx>
      <c:valAx>
        <c:axId val="621048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32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0864-C261-49BB-BE0E-499720C8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3CB4-BD05-41DC-A0F2-4E7ADAB2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F69-05B7-475D-8C62-F4EC9465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9F1-6848-4B83-9BD3-0447ECAE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95D-1529-4F65-BD74-103E035F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867-17BD-4BB3-A371-DC65BEBD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9C2-2214-4C24-BFE1-9923D3B9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A80-06A1-41EB-B0CE-78DD3308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3FE-E116-4F11-B577-9FBA8454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F67-69C6-4FEB-9148-178434E1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841-B830-4D25-972A-A0CEE628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EEC-53BA-4CAC-BA66-9B4C7F3A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37E8A4-D892-4827-9460-6C3F406AAC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