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96599"/>
        <c:axId val="8303102"/>
      </c:barChart>
      <c:catAx>
        <c:axId val="49696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3102"/>
        <c:crosses val="autoZero"/>
        <c:auto val="1"/>
        <c:lblAlgn val="ctr"/>
        <c:lblOffset val="100"/>
        <c:noMultiLvlLbl val="0"/>
      </c:catAx>
      <c:valAx>
        <c:axId val="8303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96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D9C-2318-48B3-9F45-AD2E9DE8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DE3-D01D-4E28-A511-E8AD0A1C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EBA-0288-4165-A14C-844BBE8E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769-CE47-475B-8BC7-70375383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7EE-DF42-436D-AB7B-006242DF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7BB-DE14-4442-B078-F2F1DADA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EAA-3C7C-422C-9258-26BFA18D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057-3B2D-474E-8182-0E5C5C4B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87C-BCAA-42B8-9860-09C7A187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93E-E015-4237-B3E0-C3B351D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D89-9536-4B67-9483-C09454A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D38-4787-42DB-B737-9B91684A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CC9AD-DC3E-4A59-B50E-EF299B10D1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