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681324"/>
        <c:axId val="91958363"/>
      </c:barChart>
      <c:catAx>
        <c:axId val="616813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58363"/>
        <c:crosses val="autoZero"/>
        <c:auto val="1"/>
        <c:lblAlgn val="ctr"/>
        <c:lblOffset val="100"/>
        <c:noMultiLvlLbl val="0"/>
      </c:catAx>
      <c:valAx>
        <c:axId val="919583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813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4753-4E17-44E4-BA93-25026154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ADD4-95F0-4434-8BF7-FD10D4ED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B8BC-67D7-4437-AC16-EFD2C61E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24C1-1C5D-49D2-A72A-D0A20D09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1934-69A0-443A-9DE0-B614E0C5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BFF8-79CC-4A57-B6B9-98BF084F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9D92-C754-4D28-807B-94E11AE5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EF8A-6641-4E85-B33B-4146C165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E316-BFF5-4442-BC25-C18277ED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6D03-9EAA-4159-AC6C-0EF932C6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B63F-8341-429E-83A7-293FC3ED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CF6D-2004-4861-9D13-CA3EF179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8B5F4-B07E-44B3-9111-DB07871D92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