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45248"/>
        <c:axId val="41839852"/>
      </c:barChart>
      <c:catAx>
        <c:axId val="69745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39852"/>
        <c:crosses val="autoZero"/>
        <c:auto val="1"/>
        <c:lblAlgn val="ctr"/>
        <c:lblOffset val="100"/>
        <c:noMultiLvlLbl val="0"/>
      </c:catAx>
      <c:valAx>
        <c:axId val="41839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5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B83-120D-4027-97F1-F1E6329B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FBD-D7B9-4A58-98F8-D9774CC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17B-A581-4B54-9B8F-90C56E67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B32-47A1-4524-8A20-B9F42F1F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0A0-C13B-49EA-8D9E-3A17EA3C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328-8503-4700-B206-706B977F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03F-8C2A-4349-9D56-2350DD3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1F4-0710-4A3C-8CD9-E5FE09C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BD9-340C-4119-8902-B047CB0D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AD9-DD5C-4A82-8E67-DC63543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D41-45C8-431D-8FF2-5B4157F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5B2-DBD4-4649-B16F-ED2BAF7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B7D7B-E040-412D-8469-F5C86BD86D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