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381365"/>
        <c:axId val="96263240"/>
      </c:barChart>
      <c:catAx>
        <c:axId val="813813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63240"/>
        <c:crosses val="autoZero"/>
        <c:auto val="1"/>
        <c:lblAlgn val="ctr"/>
        <c:lblOffset val="100"/>
        <c:noMultiLvlLbl val="0"/>
      </c:catAx>
      <c:valAx>
        <c:axId val="962632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3813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17DD-F99D-48C0-99BC-C34150FF0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89E1-C648-40AB-A2D0-7C0A5119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5833-C427-4FFF-BF72-935EA2FEA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025C-EEC1-4461-88C9-F4EAA9F49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0510-D1B3-4EC8-BD91-D523AE46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BC2C-3A76-4C60-9FDE-988F9A39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88E1-CCE2-4558-81E7-A22FB03C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47CB-CFFC-47C8-9BB7-882BDDB4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5841-F9D0-4431-88B5-665B3251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366A-F697-4061-9381-A812DB99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D48D-2402-485F-828C-5B8D3F5A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9F48-7DA2-459B-A593-808E1E6B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42FDB-202D-42B8-9022-6EB76ACCBE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