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21223"/>
        <c:axId val="67396172"/>
      </c:barChart>
      <c:catAx>
        <c:axId val="97721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96172"/>
        <c:crosses val="autoZero"/>
        <c:auto val="1"/>
        <c:lblAlgn val="ctr"/>
        <c:lblOffset val="100"/>
        <c:noMultiLvlLbl val="0"/>
      </c:catAx>
      <c:valAx>
        <c:axId val="67396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21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17F-BD74-4602-8644-CB965937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38B-D417-4314-94AC-988E4BDE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3E7-FB7F-4214-98B1-7F582A38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AC9-EBC4-4966-8F3A-1E580520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4FA-BC2F-4044-9C90-CE1D2B17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403-5837-4690-9ED1-8E34DCAE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6B8-2DF7-49D5-B924-C409116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E6A-6C31-4574-88A7-8DC3751F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204-E89C-49BC-9230-82CD25A2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A30-7C7E-488F-B23E-53E5BFEE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F36-4659-429A-91F6-DFBE8F0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116-DF16-4D4D-BCE8-3223E637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53CB4-406F-4BB0-9236-0E382CCD35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