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9588223"/>
        <c:axId val="61665011"/>
      </c:barChart>
      <c:catAx>
        <c:axId val="7958822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665011"/>
        <c:crosses val="autoZero"/>
        <c:auto val="1"/>
        <c:lblAlgn val="ctr"/>
        <c:lblOffset val="100"/>
        <c:noMultiLvlLbl val="0"/>
      </c:catAx>
      <c:valAx>
        <c:axId val="6166501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58822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80BF6-BF05-4829-9E83-06AD18208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E4869-31EB-4788-97DD-B2BF13307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6916C-8257-4944-81ED-9999741B6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29494-089D-4AEF-8060-564C8323D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50E14-71A2-4CF9-A84B-FD2859909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2DDBA-7242-4032-99B5-D1B94B043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D2AE6-C424-4592-99E5-9487D1E01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1683F-011F-47CF-8E09-0C8740899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92CE4-5B62-4C40-BD9D-0ADDF3CB1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80781-C5AE-4E16-AD7E-2788AA419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67F5E-098D-4651-9379-F2AE8E6E9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622A4-8143-47FD-97E5-8DCA91F16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EF7C3F-40E0-4416-9792-7F13B3FBB46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