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17351"/>
        <c:axId val="24974870"/>
      </c:barChart>
      <c:catAx>
        <c:axId val="59217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74870"/>
        <c:crosses val="autoZero"/>
        <c:auto val="1"/>
        <c:lblAlgn val="ctr"/>
        <c:lblOffset val="100"/>
        <c:noMultiLvlLbl val="0"/>
      </c:catAx>
      <c:valAx>
        <c:axId val="24974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17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10C-C959-4173-8A2B-24B478C4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FD4-E974-4E6D-AFA2-39F98E9D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6FF-0607-4A11-877F-2998703A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3DA-2AD1-4CCD-ACCD-747951D6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D95-E017-4B0B-9AB9-2804CD13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127-D623-42CE-8AA6-2EC9827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0B4-E1B1-4665-AC2F-43F24C80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09D-93B2-4B80-8466-F2EB3B37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A20-873C-4E5B-ABFD-E8A259DF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677-CD70-4015-933E-9B806B1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159-E50C-46FE-BC06-EC9CB33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730-2665-40AE-92D5-ECC90EE3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A0F61-5DB0-4107-BAF1-518BB484E2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