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798686"/>
        <c:axId val="80598650"/>
      </c:barChart>
      <c:catAx>
        <c:axId val="377986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98650"/>
        <c:crosses val="autoZero"/>
        <c:auto val="1"/>
        <c:lblAlgn val="ctr"/>
        <c:lblOffset val="100"/>
        <c:noMultiLvlLbl val="0"/>
      </c:catAx>
      <c:valAx>
        <c:axId val="805986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7986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59A6-D262-4FBB-A85D-AC2FF9DBD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D8C1-C500-42A1-B198-B7B7BC976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B503-163B-473A-95EE-CD107878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E02C-4EAF-4183-8F0E-8C3D9E0AA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8686-9F5E-452F-B68A-7CBAF700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7FDF-5FB2-40DC-8BEC-DECDD13D6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60BE-A4D9-46A9-B473-1B024F23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7CF8-C330-4F59-80A7-001C537B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9818-2C34-492F-84A1-CB5B770D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F1AC-0BDB-4FBF-B674-B03B74BC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DE18-BB3A-44C9-88ED-77F9E05A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30AB-424F-465C-97E7-F59CDD6E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587B7-9AAD-4808-BEE0-6F57B4B48E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