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59923"/>
        <c:axId val="62047631"/>
      </c:barChart>
      <c:catAx>
        <c:axId val="180599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47631"/>
        <c:crosses val="autoZero"/>
        <c:auto val="1"/>
        <c:lblAlgn val="ctr"/>
        <c:lblOffset val="100"/>
        <c:noMultiLvlLbl val="0"/>
      </c:catAx>
      <c:valAx>
        <c:axId val="62047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599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9EE-8D24-468F-B254-7A7A5BDCD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73F-9517-445B-AF96-915B250A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8E5-4089-4368-A8AF-68892EC3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D8FD-C9F0-43A1-B00C-26D4D5F5F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D49-FB93-4E4B-B8F6-3028A107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6A0-A426-42E8-91A7-6AFDF9B0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F919-2C79-4534-B431-777691ED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619A-396C-4C92-B99F-E7EFB674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5663-0820-4846-9E50-EA10C138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0FDB-6BB3-4E41-B8A5-422F4148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C17B-E0BC-4461-B076-798A39A1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21A5-23D2-419D-B9D7-E3428C4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F48BD-56E5-4C31-9D2A-D32D14476B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