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692524"/>
        <c:axId val="26615768"/>
      </c:barChart>
      <c:catAx>
        <c:axId val="856925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615768"/>
        <c:crosses val="autoZero"/>
        <c:auto val="1"/>
        <c:lblAlgn val="ctr"/>
        <c:lblOffset val="100"/>
        <c:noMultiLvlLbl val="0"/>
      </c:catAx>
      <c:valAx>
        <c:axId val="266157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6925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C117-F232-40A8-8926-C32453860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E357-F00B-4527-BB2F-900B79E00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0455-64F5-40CE-AF40-E32542F5A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FCAF-A1E0-40E9-8110-DF2880B7D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AFEB-5959-40B0-9C4B-1F79F01B1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92A0-315C-4779-A8AE-75B21437D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73D6-675A-461C-ADB3-96EE5B3CF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0949-8551-4123-8282-DA491739A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DBA3-BB84-4EA1-BB21-91F3C609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6A57-D51E-4F29-A662-DD273095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685A-9D35-4228-9606-AAF66105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1B91-D4DB-451A-ADA4-4A14A0DD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62DA8B-85B7-448C-ACF6-DB1ED107BFE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