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797194"/>
        <c:axId val="47529407"/>
      </c:barChart>
      <c:catAx>
        <c:axId val="917971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529407"/>
        <c:crosses val="autoZero"/>
        <c:auto val="1"/>
        <c:lblAlgn val="ctr"/>
        <c:lblOffset val="100"/>
        <c:noMultiLvlLbl val="0"/>
      </c:catAx>
      <c:valAx>
        <c:axId val="475294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7971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B02D-1CA0-49AD-B5D3-20630543A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0ADA-A056-4A50-BE7F-BD15532A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43E9-4566-4A8E-A347-E8C59A1A9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8C76-1DAE-4D11-9063-EE19F5CAC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9EA8-2101-44AA-94BD-660C4961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0309-CA4A-4E39-ADA2-1F2ECE792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C135-BE49-4906-A67D-9199A029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86F9-C895-4FB3-8CF5-99A46AB7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C52F-DA73-4EC0-B42D-A52754BD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529D-A399-45F3-8BA5-B5C13A46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4F23-E8FE-4973-A138-2A2FDE43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4516-4529-4707-937E-C5173762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8E8EA-D87D-4831-8E8D-F534642E34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