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77522"/>
        <c:axId val="38503291"/>
      </c:barChart>
      <c:catAx>
        <c:axId val="84677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03291"/>
        <c:crosses val="autoZero"/>
        <c:auto val="1"/>
        <c:lblAlgn val="ctr"/>
        <c:lblOffset val="100"/>
        <c:noMultiLvlLbl val="0"/>
      </c:catAx>
      <c:valAx>
        <c:axId val="38503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77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72F-4B05-4717-BE73-0F0C82CA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16D-B773-4AEB-919F-3621B319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400-A573-4E35-AAE2-E4014D0A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6DF-BEF4-44CE-9642-E9328F08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9A5-E156-4C33-AE52-BC0304CE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DB2-5590-44FE-B973-4B40A670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14B-9538-4F1F-9EE6-76B4EE84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E97-0C18-4333-A3C7-493BC9A4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ADC-24D9-4CAC-9A3A-2D0BDB46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BBC-EC7F-4E70-A8C2-314300EB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232-8B25-4A02-B35F-04667C6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3CD-5DD0-4D3D-A9F7-A1CB237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51D5C-B737-438F-9A1E-7753B4553C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