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5418"/>
        <c:axId val="20068910"/>
      </c:barChart>
      <c:catAx>
        <c:axId val="3545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68910"/>
        <c:crosses val="autoZero"/>
        <c:auto val="1"/>
        <c:lblAlgn val="ctr"/>
        <c:lblOffset val="100"/>
        <c:noMultiLvlLbl val="0"/>
      </c:catAx>
      <c:valAx>
        <c:axId val="20068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91A-1D06-43D9-A329-C171FFB1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E74-B04C-420C-8D50-840E673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615-A170-40B6-8BA6-0E00D2F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281-F00D-4256-B4A5-A2FB1C8F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951-7BD2-4C1F-942A-7C7E5C7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B81-E315-47C1-AFD5-23F0F5C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F11-79B8-447A-914C-351CC23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A3B-962B-46C8-8295-EC7B7A0C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896-0716-4A2B-BB63-75F8E478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7E4-8EAA-4C44-A790-950A474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92F-203C-4D78-856B-037F53F0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FAE-BB79-4431-8788-66E20CD9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A7372-976F-4427-85C8-80366F7830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