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59250"/>
        <c:axId val="76763803"/>
      </c:barChart>
      <c:catAx>
        <c:axId val="26959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63803"/>
        <c:crosses val="autoZero"/>
        <c:auto val="1"/>
        <c:lblAlgn val="ctr"/>
        <c:lblOffset val="100"/>
        <c:noMultiLvlLbl val="0"/>
      </c:catAx>
      <c:valAx>
        <c:axId val="76763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59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338-9ED9-49A6-82B3-F95D6AC8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923-99C9-4218-A0C9-033A1A56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BED-FA45-41DC-85DA-BC531F28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916-4CE8-472C-ADB9-C3EDEC8A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709-0B10-4123-8D80-FAF750A0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6A5-8155-455C-BC03-FA61BA2F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9E0-C934-414C-A5A4-708D57EE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7DB-7B78-4482-B7C1-CF82B0B8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E33-813F-439E-9EE7-B6557C87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69D-D7C0-460A-93F5-E084EF6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3C9-A8A6-4C9E-B9A8-C093D52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818-91EF-46BC-9B81-13BF966C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B102F-3586-4579-B56F-A389E753D2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